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0E8-80BD-4DDB-B978-E2674527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A45-6875-46AC-A247-CA977953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9F6-45ED-4CD4-8408-5335704A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BEB-77C4-4C2A-92EB-EB9977F2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D26-73DE-436E-AADD-3AE15087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8D6B-36D1-4F4C-AE51-8243EC8D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AF83-97BB-484E-85B7-3145CB7E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D7C-2E0E-473D-94E1-F5B985B0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AB0-9F38-467D-AF28-ECD16395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803D-F260-4C7D-9AD1-E5D953AA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D6BE-C056-44A2-A884-06750C87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12D-39C1-4D90-890F-C27F63D1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67C5-BE6D-4D9A-9266-3B8C19E65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crew.com/womens_feature/NewArrivals/accessories/PRDOVR~57733/57733.jsp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jcrew.com/womens_feature/NewArrivals/accessories/PRDOVR~54265/54265.jsp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www.jcrew.com/womens_category/jewelry/bracelets/PRDOVR~67899/67899.jsp" TargetMode="External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hyperlink" Target="http://www.jcrew.com/womens_category/accessories/eyewear/PRDOVR~37881/37881.jsp" TargetMode="External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1560"/>
            <a:ext cx="77724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ckadder ITC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Blackadder ITC"/>
              </a:rPr>
              <a:t>M &amp; M Ropa Catalog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By: Maggie Parisi &amp; Maddie Gr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809880"/>
            <a:ext cx="228600" cy="228600"/>
          </a:xfrm>
          <a:prstGeom prst="ellipse">
            <a:avLst/>
          </a:prstGeom>
          <a:solidFill>
            <a:srgbClr val="fb050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1880" y="2971800"/>
            <a:ext cx="228600" cy="22860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57200"/>
            <a:ext cx="22860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5181480"/>
            <a:ext cx="228600" cy="2286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685800"/>
            <a:ext cx="228600" cy="22860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1219320"/>
            <a:ext cx="228600" cy="228600"/>
          </a:xfrm>
          <a:prstGeom prst="ellipse">
            <a:avLst/>
          </a:prstGeom>
          <a:solidFill>
            <a:srgbClr val="ff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6095880"/>
            <a:ext cx="228600" cy="22860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1600200"/>
            <a:ext cx="228600" cy="22860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4800600"/>
            <a:ext cx="228600" cy="228600"/>
          </a:xfrm>
          <a:prstGeom prst="ellipse">
            <a:avLst/>
          </a:prstGeom>
          <a:solidFill>
            <a:srgbClr val="ff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4724280"/>
            <a:ext cx="228600" cy="2286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1828800"/>
            <a:ext cx="228600" cy="22860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380880"/>
            <a:ext cx="228600" cy="228600"/>
          </a:xfrm>
          <a:prstGeom prst="ellipse">
            <a:avLst/>
          </a:prstGeom>
          <a:solidFill>
            <a:srgbClr val="fb050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5867280"/>
            <a:ext cx="228600" cy="228600"/>
          </a:xfrm>
          <a:prstGeom prst="ellipse">
            <a:avLst/>
          </a:prstGeom>
          <a:solidFill>
            <a:srgbClr val="66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638680"/>
            <a:ext cx="22860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30592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Letter Gothic"/>
              </a:rPr>
              <a:t>El Oto</a:t>
            </a:r>
            <a:r>
              <a:rPr b="0" lang="en-US" sz="5400" spc="-1" strike="noStrike">
                <a:solidFill>
                  <a:srgbClr val="ffffff"/>
                </a:solidFill>
                <a:latin typeface="Letter Gothic"/>
                <a:ea typeface="Times New Roman"/>
              </a:rPr>
              <a:t>ñ</a:t>
            </a:r>
            <a:r>
              <a:rPr b="0" lang="en-US" sz="5400" spc="-1" strike="noStrike">
                <a:solidFill>
                  <a:srgbClr val="ffffff"/>
                </a:solidFill>
                <a:latin typeface="Letter Gothic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Letter 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2857680" cy="4047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48320" y="167652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1676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447920"/>
            <a:ext cx="228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etter Gothic"/>
              </a:rPr>
              <a:t>Isabel lleva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Letter Gothic"/>
              </a:rPr>
              <a:t>chaqueta</a:t>
            </a:r>
            <a:r>
              <a:rPr b="0" lang="en-US" sz="2800" spc="-1" strike="noStrike">
                <a:solidFill>
                  <a:srgbClr val="ffffff"/>
                </a:solidFill>
                <a:latin typeface="Letter Gothic"/>
              </a:rPr>
              <a:t> azul, lo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Letter Gothic"/>
              </a:rPr>
              <a:t>blue jeans</a:t>
            </a:r>
            <a:r>
              <a:rPr b="0" lang="en-US" sz="2800" spc="-1" strike="noStrike">
                <a:solidFill>
                  <a:srgbClr val="ffffff"/>
                </a:solidFill>
                <a:latin typeface="Letter Gothic"/>
              </a:rPr>
              <a:t>, y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Letter Gothic"/>
              </a:rPr>
              <a:t>bufanda</a:t>
            </a:r>
            <a:r>
              <a:rPr b="0" lang="en-US" sz="2800" spc="-1" strike="noStrike">
                <a:solidFill>
                  <a:srgbClr val="ffffff"/>
                </a:solidFill>
                <a:latin typeface="Letter Gothic"/>
              </a:rPr>
              <a:t> azul y blan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400800" y="457200"/>
            <a:ext cx="2054160" cy="3132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62720" y="457200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etter Gothic"/>
              </a:rPr>
              <a:t>Carlos lleva u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Letter Gothic"/>
              </a:rPr>
              <a:t>traje</a:t>
            </a:r>
            <a:r>
              <a:rPr b="0" lang="en-US" sz="2400" spc="-1" strike="noStrike">
                <a:solidFill>
                  <a:srgbClr val="ffffff"/>
                </a:solidFill>
                <a:latin typeface="Letter Gothic"/>
              </a:rPr>
              <a:t> negro, un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Letter Gothic"/>
              </a:rPr>
              <a:t>corbata</a:t>
            </a:r>
            <a:r>
              <a:rPr b="0" lang="en-US" sz="2400" spc="-1" strike="noStrike">
                <a:solidFill>
                  <a:srgbClr val="ffffff"/>
                </a:solidFill>
                <a:latin typeface="Letter Gothic"/>
              </a:rPr>
              <a:t> roja, y un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Letter Gothic"/>
              </a:rPr>
              <a:t>camisa</a:t>
            </a:r>
            <a:r>
              <a:rPr b="0" lang="en-US" sz="2400" spc="-1" strike="noStrike">
                <a:solidFill>
                  <a:srgbClr val="ffffff"/>
                </a:solidFill>
                <a:latin typeface="Letter Gothic"/>
              </a:rPr>
              <a:t> blan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adley Hand ITC"/>
              </a:rPr>
              <a:t>El Vera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2832120" cy="3386160"/>
          </a:xfrm>
          <a:prstGeom prst="rect">
            <a:avLst/>
          </a:prstGeom>
          <a:ln w="31680">
            <a:solidFill>
              <a:srgbClr val="000000"/>
            </a:solidFill>
            <a:prstDash val="sysDot"/>
            <a:miter/>
          </a:ln>
        </p:spPr>
      </p:pic>
      <p:sp>
        <p:nvSpPr>
          <p:cNvPr id="66" name=""/>
          <p:cNvSpPr/>
          <p:nvPr/>
        </p:nvSpPr>
        <p:spPr>
          <a:xfrm>
            <a:off x="457200" y="5257800"/>
            <a:ext cx="2590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Adalina lleva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Bradley Hand ITC"/>
              </a:rPr>
              <a:t>traje de ba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Bradley Hand ITC"/>
                <a:ea typeface="Arial"/>
              </a:rPr>
              <a:t>ñ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Bradley Hand ITC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 ros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191120" y="3200400"/>
            <a:ext cx="2427120" cy="3448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72200" y="144792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Esperanza lleva lo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Bradley Hand ITC"/>
              </a:rPr>
              <a:t>pantalones cortos</a:t>
            </a: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 verde y rosada. Ella lleva un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Bradley Hand ITC"/>
              </a:rPr>
              <a:t>camiseta</a:t>
            </a: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 rosa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"/>
              </a:rPr>
              <a:t>El Inviern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27432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"/>
              </a:rPr>
              <a:t>Jos</a:t>
            </a:r>
            <a:r>
              <a:rPr b="0" lang="en-US" sz="2000" spc="-1" strike="noStrike">
                <a:solidFill>
                  <a:srgbClr val="000000"/>
                </a:solidFill>
                <a:latin typeface="Goudy"/>
                <a:ea typeface="Arial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Goudy"/>
              </a:rPr>
              <a:t> lleva una camisa blanca, u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Goudy"/>
              </a:rPr>
              <a:t>su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Goudy"/>
                <a:ea typeface="Arial"/>
              </a:rPr>
              <a:t>é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Goudy"/>
              </a:rPr>
              <a:t>ter</a:t>
            </a:r>
            <a:r>
              <a:rPr b="0" lang="en-US" sz="2000" spc="-1" strike="noStrike">
                <a:solidFill>
                  <a:srgbClr val="000000"/>
                </a:solidFill>
                <a:latin typeface="Goudy"/>
              </a:rPr>
              <a:t> gris, y negro, y lo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Goudy"/>
              </a:rPr>
              <a:t>pantalones</a:t>
            </a:r>
            <a:r>
              <a:rPr b="0" lang="en-US" sz="2000" spc="-1" strike="noStrike">
                <a:solidFill>
                  <a:srgbClr val="000000"/>
                </a:solidFill>
                <a:latin typeface="Goudy"/>
              </a:rPr>
              <a:t> gri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2228760" cy="2967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095880" y="3276720"/>
            <a:ext cx="2498760" cy="3047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29400" y="68580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oudy"/>
              </a:rPr>
              <a:t>Carmen lleva una su</a:t>
            </a:r>
            <a:r>
              <a:rPr b="0" lang="en-US" sz="1800" spc="-1" strike="noStrike">
                <a:solidFill>
                  <a:srgbClr val="000000"/>
                </a:solidFill>
                <a:latin typeface="Goudy"/>
                <a:ea typeface="Arial"/>
              </a:rPr>
              <a:t>éter a rayas blanca y negra. Ella lleva pantalones negros y una pulsera g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Primav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2517480" cy="3352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895480" y="548640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egail lleva una gorra verde y rosada y un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esti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erde y rosado de l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Admiral Buttoned Legging"/>
          <p:cNvPicPr/>
          <p:nvPr/>
        </p:nvPicPr>
        <p:blipFill>
          <a:blip r:embed="rId3"/>
          <a:stretch/>
        </p:blipFill>
        <p:spPr>
          <a:xfrm>
            <a:off x="5334120" y="762120"/>
            <a:ext cx="3581280" cy="3581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6019920" y="4038480"/>
            <a:ext cx="281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464832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jandra lleva una vestido a rayas azul y blanco. Ella lleva lo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zapat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a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és y un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intur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café tam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6fd5ed"/>
            </a:gs>
            <a:gs pos="100000">
              <a:srgbClr val="00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Accesorio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Fisherman cable ha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Hearthstone glov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18288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Stripe hand-enameled bang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29400" y="43434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Feathered crystal necklace"/>
          <p:cNvPicPr/>
          <p:nvPr/>
        </p:nvPicPr>
        <p:blipFill>
          <a:blip r:embed="rId7"/>
          <a:stretch/>
        </p:blipFill>
        <p:spPr>
          <a:xfrm>
            <a:off x="2514600" y="4191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Cutler and Gross® sunglasses #074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743200" y="19051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457200" y="16765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6477120" y="19051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480" y="33526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Lo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radley Hand ITC"/>
              </a:rPr>
              <a:t>Calcetin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radley Hand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342900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La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radley Hand ITC"/>
              </a:rPr>
              <a:t>Gafas d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3276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Lo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radley Hand ITC"/>
              </a:rPr>
              <a:t>Guant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3505320"/>
            <a:ext cx="137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3505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El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radley Hand ITC"/>
              </a:rPr>
              <a:t>Bo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6095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L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radley Hand ITC"/>
              </a:rPr>
              <a:t>Gorra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59436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El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radley Hand ITC"/>
              </a:rPr>
              <a:t>Col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5867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L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radley Hand ITC"/>
              </a:rPr>
              <a:t>Buf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5943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La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radley Hand ITC"/>
              </a:rPr>
              <a:t>Pulsera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Bradley Hand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4800600" y="4038480"/>
            <a:ext cx="1278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8:03:55Z</dcterms:created>
  <dc:creator>parisimag</dc:creator>
  <dc:description/>
  <dc:language>en-US</dc:language>
  <cp:lastModifiedBy>parisimag</cp:lastModifiedBy>
  <dcterms:modified xsi:type="dcterms:W3CDTF">2011-12-14T20:17:12Z</dcterms:modified>
  <cp:revision>12</cp:revision>
  <dc:subject/>
  <dc:title>M &amp; M </dc:title>
</cp:coreProperties>
</file>